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F73-F014-4355-990C-E6A15356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4109-0A1A-47EB-9170-3E0A61E5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426-ACC2-497F-90DB-7FE7A061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CAB-A128-4EAA-BF63-917CD412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D28-C725-4AE6-9E49-F1989DDE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A35-A958-4586-AE47-EDBAAF0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0BEC-9521-4768-B909-69EE62A3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8904-64CC-429C-BE15-3841DAF9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392-4E19-4570-B27F-FE0034F5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864-2915-454D-B00D-B9CB031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242-2E55-4AAD-ADCF-D73648E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15D-1906-4CE2-AB40-B03804FB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16B4-BB6D-4E96-8CD7-13FB013B75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ANd9GcRkQ6sxnF-WSRfXVKT7s1tWNAbq4QthiP6oKJ9Q_qsj9MsNUb7dQg"/>
          <p:cNvPicPr/>
          <p:nvPr/>
        </p:nvPicPr>
        <p:blipFill>
          <a:blip r:embed="rId1"/>
          <a:stretch/>
        </p:blipFill>
        <p:spPr>
          <a:xfrm>
            <a:off x="6336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6781680" cy="21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Une journée dans la vie de Judy, le coc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5333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y: Meghan Hur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nd Inna Ka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7"/>
          <p:cNvSpPr/>
          <p:nvPr/>
        </p:nvSpPr>
        <p:spPr>
          <a:xfrm>
            <a:off x="3809880" y="2786040"/>
            <a:ext cx="1524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3809880" y="2786040"/>
            <a:ext cx="15242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1" descr="pig-driving-car"/>
          <p:cNvPicPr/>
          <p:nvPr/>
        </p:nvPicPr>
        <p:blipFill>
          <a:blip r:embed="rId1"/>
          <a:stretch/>
        </p:blipFill>
        <p:spPr>
          <a:xfrm>
            <a:off x="228600" y="15840"/>
            <a:ext cx="891540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3"/>
          <p:cNvSpPr/>
          <p:nvPr/>
        </p:nvSpPr>
        <p:spPr>
          <a:xfrm>
            <a:off x="152280" y="60948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Arial"/>
              </a:rPr>
              <a:t>Elle conduit au travail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g_hi" descr="ANd9GcQXB5Z3XsOp7PeEJRnD-H3XMXxmR1Uy6az756Z_DnkfdBnxLSZJ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934320" y="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lle prend son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jeu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g_hi" descr="ANd9GcR_d6QrMwtEF6U0DSN7xbvRlw8cVp9FI0JhxepCdA70P6592s5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0" y="1600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Judy va </a:t>
            </a:r>
            <a:r>
              <a:rPr b="1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à la « Porc Lavag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1062504-Clipart-Cartoon-Pig-Racing-A-Hot-Rod-Royalty-Free-Vector-Illustration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5791320" y="990720"/>
            <a:ext cx="3047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Chez elle se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dépêche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 du trav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g_hi" descr="ANd9GcQw-27WdWX6EyLrOZooQzmQsMHl2sDT5zWZsdjU3s9pgQD3bY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486400" y="38088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y prend le dîn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Nd9GcSok3ukmXr2Rzq2zMZyhd4tCUPMAjC3SMw0d9-elA8rI4kj_hjIcw"/>
          <p:cNvPicPr/>
          <p:nvPr/>
        </p:nvPicPr>
        <p:blipFill>
          <a:blip r:embed="rId1"/>
          <a:stretch/>
        </p:blipFill>
        <p:spPr>
          <a:xfrm>
            <a:off x="762120" y="533520"/>
            <a:ext cx="532260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5235480" y="609480"/>
            <a:ext cx="3581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le allume le télévision apres le dî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rg_hi" descr="ANd9GcSmv-HRrcJ5F_5OPn3mCEZgHTdZnWkLnhTQf06NfoXMl_NQwVzE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80880" y="304920"/>
            <a:ext cx="265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udy se couche. Elle s’endorm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ig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3657600" cy="23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609480" y="68580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28600" y="10666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Judy se révei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pi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47920" y="434340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Elle se lé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rg_hi" descr="ANd9GcQyCXXpthwfnWWV4Qdwmgm47RaEzrfPe9smFSxQK4qf1c0ymyyic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14400" y="5867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Elle se prendre la bain de la bo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pig brushing its teeth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5486400" y="6858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248520" y="762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29528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Arial"/>
              </a:rPr>
              <a:t>Elle se brosse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rg_hi" descr="ANd9GcQqX6WqhxAGTDdJ4o8sU8LmL2OP1FOd8Q9_kY0jMnH5fN3AL8V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5029200" y="38088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ff"/>
                </a:solidFill>
                <a:latin typeface="Arial"/>
              </a:rPr>
              <a:t>Elle prend son petit d</a:t>
            </a:r>
            <a:r>
              <a:rPr b="0" lang="en-US" sz="3200" spc="-1" strike="noStrike">
                <a:solidFill>
                  <a:srgbClr val="9900ff"/>
                </a:solidFill>
                <a:latin typeface="Arial"/>
              </a:rPr>
              <a:t>éjeu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ANd9GcS8q3k8txQ9HOd5i0dSmwbslpmOAFsHoNdDo_-yf_SJbX33SS4s9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85800" y="30492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ff"/>
                </a:solidFill>
                <a:latin typeface="Arial"/>
              </a:rPr>
              <a:t>Elle se brosse les cheveux.</a:t>
            </a: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3367080" y="2481120"/>
            <a:ext cx="24098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367080" y="2481120"/>
            <a:ext cx="240984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tumblr_lkniszc19a1qbhqak"/>
          <p:cNvPicPr/>
          <p:nvPr/>
        </p:nvPicPr>
        <p:blipFill>
          <a:blip r:embed="rId1"/>
          <a:stretch/>
        </p:blipFill>
        <p:spPr>
          <a:xfrm>
            <a:off x="0" y="792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594360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Elle s’habil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lipstick p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2895480" y="5334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ff"/>
                </a:solidFill>
                <a:latin typeface="Arial"/>
              </a:rPr>
              <a:t>Elle se maquil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2:00Z</dcterms:created>
  <dc:creator>hurleymeg</dc:creator>
  <dc:description/>
  <dc:language>en-US</dc:language>
  <cp:lastModifiedBy>Inna Kagan</cp:lastModifiedBy>
  <dcterms:modified xsi:type="dcterms:W3CDTF">2012-03-12T01:35:46Z</dcterms:modified>
  <cp:revision>7</cp:revision>
  <dc:subject/>
  <dc:title>A Day in the Life of Judy, the Pig</dc:title>
</cp:coreProperties>
</file>